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37B-47A0-4727-946A-527E88C7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FE4-811D-4EE8-B197-1141B3C3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149-6F8F-4596-A2EC-AD9FE6A0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A3F-54F2-4CAB-9B95-5D000751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854-04AC-48E0-BA40-74A76D64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417-B422-478C-938C-1E4A12F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59B-752B-432B-8AE0-FB69E467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E9D-60BC-42AC-B123-F634866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69A-D972-425F-AFAF-78C05F0D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DD3-E3C2-4A29-A1C8-E73926D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F0D-4259-4173-9CEA-ECAAAFA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6CA-C30E-4782-859E-74C31EA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2865-A71E-46AD-9E37-2C3264CF6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838080"/>
            <a:ext cx="899172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</a:t>
            </a:r>
            <a:endParaRPr b="0" lang="en-US" sz="1800" spc="1" strike="noStrike">
              <a:ln cap="rnd" w="1260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 flipV="1" rot="11096400">
            <a:off x="2895120" y="913320"/>
            <a:ext cx="457200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65440" y="609480"/>
            <a:ext cx="10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81280" y="45720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Jamaica Farewell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3-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Cade"/>
          <p:cNvPicPr/>
          <p:nvPr/>
        </p:nvPicPr>
        <p:blipFill>
          <a:blip r:embed="rId1"/>
          <a:srcRect l="0" t="0" r="50005" b="0"/>
          <a:stretch/>
        </p:blipFill>
        <p:spPr>
          <a:xfrm>
            <a:off x="0" y="2362320"/>
            <a:ext cx="3276720" cy="449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Cade"/>
          <p:cNvPicPr/>
          <p:nvPr/>
        </p:nvPicPr>
        <p:blipFill>
          <a:blip r:embed="rId2"/>
          <a:srcRect l="50005" t="2179" r="0" b="0"/>
          <a:stretch/>
        </p:blipFill>
        <p:spPr>
          <a:xfrm>
            <a:off x="3276720" y="2362320"/>
            <a:ext cx="586728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33720" y="1058760"/>
            <a:ext cx="4190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/28/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2286000"/>
            <a:ext cx="7162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  G Series  Orange   Lemon-Lime                       Ice Breeze  Tropical Punch      Fruit Punch   Respond To Thirst   Grape  G2   Berry 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ff01"/>
                </a:solidFill>
                <a:latin typeface="Arial"/>
              </a:rPr>
              <a:t>Invention:</a:t>
            </a:r>
            <a:r>
              <a:rPr b="0" lang="en-US" sz="4400" spc="-1" strike="noStrike">
                <a:solidFill>
                  <a:srgbClr val="6eff01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eff01"/>
                </a:solidFill>
                <a:latin typeface="Arial"/>
              </a:rPr>
              <a:t>Gato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t every soccer, football, and baseball game</a:t>
            </a: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First seen when the Florida Gators won their first Orange Bow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Sales in 2001 were almost in the bill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First was sold by Stokely-Van Camp, then The Quaker Oats Company, and now the Pepsi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There were only 5 flavors in the beginning and now there are over 15. Orange is the most common flavor th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Also makes chewing gum and energy b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ventor: Robert C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obert Cade grew up in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e was born in 19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e was a medical researcher at the University of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e studied for a cure of cancer and diabetes. Also, down syndr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e Graduated from medical school after going to The University of Texas Medical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1:39Z</dcterms:created>
  <dc:creator>install</dc:creator>
  <dc:description/>
  <dc:language>en-US</dc:language>
  <cp:lastModifiedBy>install</cp:lastModifiedBy>
  <dcterms:modified xsi:type="dcterms:W3CDTF">2011-03-11T18:30:58Z</dcterms:modified>
  <cp:revision>13</cp:revision>
  <dc:subject/>
  <dc:title>Slide 1</dc:title>
</cp:coreProperties>
</file>